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CCA6-ACDF-4B97-8382-F8FCF893A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B45B-940B-4EB3-A2BD-BB7C01F01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2D62-A8CD-485A-AD69-C3C48DAB6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5D90-0FFE-4A1C-9C93-8811574ED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3C8E-461E-4E04-A872-DC235B579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E2E5-91D8-463F-80F6-DB5948678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9AF4-9905-455D-8FC0-A6AF27986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BE12-D597-4CC2-8C2B-57000400B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5D82-CB31-4DA1-A4D0-4EDE52E39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F954-AB8D-4343-9DEE-14383178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B089-A5A3-4FD4-8A51-1F16852C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2169-5704-416B-8C8D-C1363602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66D25-A821-47E3-A5CF-436481650E3A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0920" y="980640"/>
            <a:ext cx="8424720" cy="4824360"/>
          </a:xfrm>
          <a:prstGeom prst="rect">
            <a:avLst/>
          </a:prstGeom>
          <a:solidFill>
            <a:srgbClr val="ffffff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ساب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هم أساليب التحليل الكمي المستخ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في تحليل التقارير المالي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627C-8D9A-4314-9F5A-59CEF82F78AE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17280"/>
            <a:ext cx="7772400" cy="1143000"/>
          </a:xfrm>
          <a:prstGeom prst="rect">
            <a:avLst/>
          </a:prstGeom>
          <a:solidFill>
            <a:srgbClr val="e7e5e1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ستويات التحلي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2455920"/>
            <a:ext cx="3581640" cy="82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ستوى المشرو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76720" y="3809880"/>
            <a:ext cx="358128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ستوى الصناع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5157720"/>
            <a:ext cx="4267080" cy="838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ستوى العالم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913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بع: الأساليب الكمية المستخدمة في 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97B6-2A6F-4E92-A61F-CBBAFA743490}" type="slidenum">
              <a:t>2</a:t>
            </a:fld>
          </a:p>
        </p:txBody>
      </p:sp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741600" y="1477800"/>
            <a:ext cx="7660800" cy="1031400"/>
          </a:xfrm>
          <a:prstGeom prst="rect">
            <a:avLst/>
          </a:prstGeom>
          <a:solidFill>
            <a:srgbClr val="e7e5e1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اساليب المستخدمة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36560" y="3366720"/>
            <a:ext cx="7585200" cy="2162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3" marL="1371600" algn="just" rtl="1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مقارنات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 rtl="1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معدلات التغي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 rtl="1">
              <a:lnSpc>
                <a:spcPct val="100000"/>
              </a:lnSpc>
              <a:spcBef>
                <a:spcPts val="601"/>
              </a:spcBef>
              <a:buSzPct val="1028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متوسط النسب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913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بع: الأساليب الكمية المستخدمة في 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F478-F982-41F6-97CF-E06507C15B7D}" type="slidenum">
              <a:t>3</a:t>
            </a:fld>
          </a:p>
        </p:txBody>
      </p:sp>
    </p:spTree>
  </p:cSld>
  <p:transition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1203120"/>
            <a:ext cx="7772760" cy="763920"/>
          </a:xfrm>
          <a:prstGeom prst="rect">
            <a:avLst/>
          </a:prstGeom>
          <a:gradFill rotWithShape="0">
            <a:gsLst>
              <a:gs pos="0">
                <a:srgbClr val="e7e5e1"/>
              </a:gs>
              <a:gs pos="50000">
                <a:srgbClr val="ffffcc"/>
              </a:gs>
              <a:gs pos="100000">
                <a:srgbClr val="e7e5e1"/>
              </a:gs>
            </a:gsLst>
            <a:lin ang="5400000"/>
          </a:gradFill>
          <a:ln w="381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قاييس النزعة المركزية (المتوسطات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2492280"/>
            <a:ext cx="7772400" cy="3816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متوسط  = المجموع/العدد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وخاصة على مستوى الصنا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وسيط = عدد المرات + 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1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 /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منوال = القيمة الاكثر شيوع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913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بع: الأساليب الكمية المستخدمة في 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F916-42D3-4C4D-AC5E-69BB1B876466}" type="slidenum">
              <a:t>4</a:t>
            </a:fld>
          </a:p>
        </p:txBody>
      </p:sp>
    </p:spTree>
  </p:cSld>
  <p:transition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11280" y="1699920"/>
            <a:ext cx="7772760" cy="912240"/>
          </a:xfrm>
          <a:prstGeom prst="rect">
            <a:avLst/>
          </a:prstGeom>
          <a:gradFill rotWithShape="0">
            <a:gsLst>
              <a:gs pos="0">
                <a:srgbClr val="c7cfc1"/>
              </a:gs>
              <a:gs pos="50000">
                <a:srgbClr val="ffffff"/>
              </a:gs>
              <a:gs pos="100000">
                <a:srgbClr val="c7cfc1"/>
              </a:gs>
            </a:gsLst>
            <a:lin ang="5400000"/>
          </a:gradFill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قاييس الاختلاف والتشت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1400" y="3571920"/>
            <a:ext cx="7716960" cy="237816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50000">
                <a:srgbClr val="e7e5e1"/>
              </a:gs>
              <a:gs pos="100000">
                <a:srgbClr val="e6dcac"/>
              </a:gs>
            </a:gsLst>
            <a:lin ang="135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معرفة مدى تجمع قيم النسب المالية أو تشتتها حول المتوسط الحسابي عن طريق حساب الانحراف المعياري لكل نسبة من النس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913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بع: الأساليب الكمية المستخدمة في 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FD40-AC1D-4954-B0A1-4EEBC7AE3735}" type="slidenum">
              <a:t>5</a:t>
            </a:fld>
          </a:p>
        </p:txBody>
      </p:sp>
    </p:spTree>
  </p:cSld>
  <p:transition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85800" y="1058760"/>
            <a:ext cx="7772760" cy="76428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لاقات الارتباط والانحدا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2920" y="2427120"/>
            <a:ext cx="8893080" cy="4026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ارتباط هو التلازم بين متغيرين تلازما كميا بحيث تؤدي الزيادة في أحد المتغيرين الى زيادة المتغير الآخر أو العك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يقاس عن طريق حساب معامل ارتباط بيرسون أو سبيرما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وقربه من الواحد الصحيح يشير الى وجود ارتباط قوي موجب بين المتغير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91320" y="641664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بع: الأساليب الكمية المستخدمة في 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B08F-FE4B-48C8-A084-83203AC7853C}" type="slidenum">
              <a:t>6</a:t>
            </a:fld>
          </a:p>
        </p:txBody>
      </p:sp>
    </p:spTree>
  </p:cSld>
  <p:transition>
    <p:random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Abu-Ali</cp:lastModifiedBy>
  <dcterms:modified xsi:type="dcterms:W3CDTF">2004-04-06T17:12:41Z</dcterms:modified>
  <cp:revision>22</cp:revision>
  <dc:subject/>
  <dc:title>التحليل المالي والائتماني</dc:title>
</cp:coreProperties>
</file>